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360-CE7B-423B-86D7-20CFA329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C29-1D23-4D80-A0AE-D366EB40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305-EAE8-40FA-88CA-39A0486F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228-47F2-4DE8-A5F1-BC8D4822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243-685B-46B3-A14F-816FCAE1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89D-8A34-40FE-9546-3C42E673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25F-9724-4A99-AB99-5D3C2B37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6FC0-1B92-4526-B5DC-8FC33DF1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229-C8B7-429B-B82D-647CEF28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357-B489-4EA2-849A-D2EF10C9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167-F450-4066-8199-3CF7FE3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BC9-1729-4818-85C9-3332E910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C24B-20E1-42B8-B6CA-100E179FE3C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B414-1730-44AB-B3EB-24FBED8E8C0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54080" y="3035880"/>
            <a:ext cx="8648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验活动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7   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溶液酸碱性的检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2864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十单元 酸和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027080" y="1227240"/>
            <a:ext cx="700092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问题交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你自制的指示剂检验溶液酸碱性的效果如何？了解其他组同学自制的指示剂的检验效果，哪种植物制成的指示剂效果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归纳自制的指示剂在酸、碱溶液中的颜色变化情况，与同学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83"/>
          <p:cNvSpPr/>
          <p:nvPr/>
        </p:nvSpPr>
        <p:spPr>
          <a:xfrm>
            <a:off x="1176480" y="2617920"/>
            <a:ext cx="749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步学会用酸碱指示剂检验溶液的酸碱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初步学会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纸测定溶液的酸碱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079"/>
          <p:cNvSpPr/>
          <p:nvPr/>
        </p:nvSpPr>
        <p:spPr>
          <a:xfrm>
            <a:off x="1432440" y="1554120"/>
            <a:ext cx="16311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目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87280" y="2979720"/>
            <a:ext cx="74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仪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烧杯、试管、研钵、玻璃棒、胶头滴管、纱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药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蒸馏水、酒精、酚酞溶液、石蕊溶液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纸、植物的花瓣或果实、土壤样品、食醋、蔗糖溶液、草木灰水、肥皂水、石灰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606"/>
          <p:cNvSpPr/>
          <p:nvPr/>
        </p:nvSpPr>
        <p:spPr>
          <a:xfrm>
            <a:off x="1432440" y="1770120"/>
            <a:ext cx="16311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用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42920" y="1052640"/>
            <a:ext cx="74995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活动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自制酸碱指示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取牵牛花、万寿菊、胡萝卜、玫瑰的花瓣或果实在研钵中捣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入酒精浸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纱布将浸泡出的汁液过滤或挤出。并分别做好标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选择生活中的食醋、蔗糖溶液、草木灰水、肥皂水、石灰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进行下列实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盛有以上几种溶液的试管中分别滴加酚酞溶液和石蕊溶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察颜色的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04840" y="1938240"/>
            <a:ext cx="749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纸测定食醋、蔗糖溶液、草木灰水、肥皂水、石灰水五种溶液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验自制的指示剂在食醋、蔗糖溶液、草木灰水、肥皂水、石灰水五种溶液中的颜色变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74680" y="673200"/>
            <a:ext cx="854712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现象与记录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酚酞滴加在食醋、蔗糖溶液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滴加在草木灰水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肥皂水、石灰水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蕊滴加在食醋溶液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滴加在蔗糖溶液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滴加在草木灰水、肥皂水、石灰水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食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蔗糖溶液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草木灰水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肥皂水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石灰水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573440" y="1468800"/>
            <a:ext cx="124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不变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701800" y="2261160"/>
            <a:ext cx="124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变红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710160" y="2981880"/>
            <a:ext cx="1241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变红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165800" y="2981880"/>
            <a:ext cx="1241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不变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186520" y="3700800"/>
            <a:ext cx="1241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变蓝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81080" y="442152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113440" y="4489920"/>
            <a:ext cx="393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8116920" y="441684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378160" y="520884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235480" y="5156640"/>
            <a:ext cx="56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042920" y="981000"/>
            <a:ext cx="74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制的指示剂在溶液中颜色的变化如表所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76480" y="1838160"/>
          <a:ext cx="7026120" cy="3895560"/>
        </p:xfrm>
        <a:graphic>
          <a:graphicData uri="http://schemas.openxmlformats.org/drawingml/2006/table">
            <a:tbl>
              <a:tblPr/>
              <a:tblGrid>
                <a:gridCol w="1281240"/>
                <a:gridCol w="1596960"/>
                <a:gridCol w="1280880"/>
                <a:gridCol w="2867040"/>
              </a:tblGrid>
              <a:tr h="120168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植物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汁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在食醋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在蔗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溶液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在草木灰水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肥皂水、石灰水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牵牛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红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紫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蓝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万寿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黄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黄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黄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胡萝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橙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橙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橙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玫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浅红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浅红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54720" bIns="54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微软雅黑"/>
                        </a:rPr>
                        <a:t>绿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54000" y="549360"/>
            <a:ext cx="8190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实验结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食醋的溶液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pH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使石蕊溶液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酞溶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蔗糖的溶液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pH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能使石蕊溶液和酚酞溶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草木灰水、肥皂水、石灰水的溶液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pH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石蕊溶液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酚酞溶液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汁液可用作酸碱指示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汁液不能用作酸碱指示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987640" y="120060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酸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303800" y="1319760"/>
            <a:ext cx="844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&lt;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877080" y="120060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476360" y="1776960"/>
            <a:ext cx="186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不变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916360" y="236088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中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4356000" y="2400840"/>
            <a:ext cx="844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=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940360" y="340884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碱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7380360" y="3480120"/>
            <a:ext cx="844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&gt;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268360" y="3984840"/>
            <a:ext cx="134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蓝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003640" y="3984840"/>
            <a:ext cx="134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红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42920" y="4511880"/>
            <a:ext cx="186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牵牛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484360" y="451188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玫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6588000" y="4511880"/>
            <a:ext cx="1860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万寿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755640" y="5088240"/>
            <a:ext cx="134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胡萝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07920" y="1397160"/>
            <a:ext cx="820116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检测土壤的酸碱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实验步骤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校园或农田里取少量土壤样品。将土壤样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蒸馏水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∶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质量比在烧杯中混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分搅拌后静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纸测澄清液体的酸碱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实验记录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澄清液体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实验结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校园或农田土壤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851360" y="3578400"/>
            <a:ext cx="8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076720" y="4154760"/>
            <a:ext cx="8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59:32Z</dcterms:created>
  <dc:creator/>
  <dc:description/>
  <dc:language>en-US</dc:language>
  <cp:lastModifiedBy>Administrator</cp:lastModifiedBy>
  <dcterms:modified xsi:type="dcterms:W3CDTF">2019-01-08T00:58:01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